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2D18-AAC4-4702-8C7E-EA5B40DEA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D906-2471-47EF-AC8F-E67F6DD9E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BDCD-4DB3-4F89-AC26-F40AB0F17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EBEB-EE31-4984-8B3B-89CC4C95D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CF06-C0C6-42E8-A20E-A82F4CBFD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72E9-F2A9-4016-AB3A-A62F68142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76D4-8EC2-4AB5-A6F6-E4A3D1CF3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C929-4FE2-4DDA-8C82-543B6ABC1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6532-1F86-429F-9D1C-25D1AE65D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F389-BC17-42F5-8920-AF87CA25E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5E09-67FE-4B66-BACE-351A4BEB1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6E08-D8D6-47FA-9434-5B6DBF1F9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D934B-C053-42D6-A747-3D5AA0369FF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83600" y="2362320"/>
            <a:ext cx="4915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Criteria for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Confounding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1295280" y="1219320"/>
            <a:ext cx="662940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1371600" y="1219320"/>
            <a:ext cx="6477120" cy="43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523880" y="1305000"/>
            <a:ext cx="632484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371600" y="1247760"/>
            <a:ext cx="65530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523880" y="1509840"/>
            <a:ext cx="64008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371600" y="1295280"/>
            <a:ext cx="655308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914400" y="685800"/>
            <a:ext cx="7467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0" b="47027"/>
          <a:stretch/>
        </p:blipFill>
        <p:spPr>
          <a:xfrm>
            <a:off x="1143000" y="1050840"/>
            <a:ext cx="6858000" cy="27432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rcRect l="0" t="12918" r="0" b="44711"/>
          <a:stretch/>
        </p:blipFill>
        <p:spPr>
          <a:xfrm>
            <a:off x="1143000" y="3733920"/>
            <a:ext cx="6858000" cy="21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0" b="12918"/>
          <a:stretch/>
        </p:blipFill>
        <p:spPr>
          <a:xfrm>
            <a:off x="1371600" y="1460520"/>
            <a:ext cx="678168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143000" y="1066680"/>
            <a:ext cx="6934320" cy="48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371600" y="1371600"/>
            <a:ext cx="6629400" cy="46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1447920" y="1211400"/>
            <a:ext cx="6629400" cy="44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0" r="0" b="18213"/>
          <a:stretch/>
        </p:blipFill>
        <p:spPr>
          <a:xfrm>
            <a:off x="1371600" y="1469880"/>
            <a:ext cx="6629400" cy="40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1295280" y="1143000"/>
            <a:ext cx="6782040" cy="45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219320" y="990720"/>
            <a:ext cx="678168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28T17:52:34Z</dcterms:modified>
  <cp:revision>217</cp:revision>
  <dc:subject/>
  <dc:title>Slide 1</dc:title>
</cp:coreProperties>
</file>